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899-6084-43CA-AF3B-7E304F12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0DD-F37D-4276-9290-A0198A3F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280-B4B3-4B46-BE40-41F52996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FD6-D8F1-4463-AEAC-9373F604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44D3-259F-4DD6-9823-D14948EA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5493-1383-4307-B15F-441D9A57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19AA-CA98-440C-B75F-43D43DD9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CE56-32A6-433D-B9DE-E08E223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2EB7-15E3-4D63-9EE7-821A34AC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07F8-5A3B-4539-8D06-295415E6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A494-64AB-4408-A0F7-7EDE9639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E23-E1A4-494A-BAD4-A322DE7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C8F6-DB72-4D22-8FAB-9D97D77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D13A-3194-4FC8-9BAA-6F9DE58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131B-0BB1-4221-9925-F4D20AC5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3086-0240-4F54-BC01-1A07C7B2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1F98-593D-4B12-A820-783B5CCB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C9F-8614-40C1-967B-CBFB5EED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FD4-CAEF-4B5C-9773-353F5816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8A0-273A-4E8F-A39C-E909F7A6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167-CF81-4CC9-A514-BDFBF881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5DA-04B0-4FE4-B0D5-1F2EA36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A21-17D0-45A7-BEFC-9861596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594-5B55-4B01-B3AB-7A48F8B0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8F8A-5FE0-4269-8F66-4750F71331F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F4A3-A04C-478D-A3FD-A6E1020EDF6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Day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reshm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et an AR book/read when done with wr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ok at the following image and create a story to go with it. Follow Poe’s example and use Gothic eleme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5:12:07Z</dcterms:created>
  <dc:creator>VMS</dc:creator>
  <dc:description/>
  <dc:language>en-US</dc:language>
  <cp:lastModifiedBy>VMS</cp:lastModifiedBy>
  <dcterms:modified xsi:type="dcterms:W3CDTF">2009-08-27T15:29:33Z</dcterms:modified>
  <cp:revision>2</cp:revision>
  <dc:subject/>
  <dc:title>English Day 8</dc:title>
</cp:coreProperties>
</file>